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146-801D-487A-8319-6A7555DC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C96-1DB8-45E0-B994-3E52DD16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FA2-137B-4470-A145-F33AEFF6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FFE-3069-4231-8CBB-65622EF7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D8CF-C803-4C5C-BB98-2964AA60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A3F6-A51C-47F8-BA4B-96017A94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BD5D-DC3E-4D06-8497-219A995A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A659-CDAB-4F8E-832A-3F771B2E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153C-18E6-4124-A56E-64D45F7E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F64A-7681-4FF1-9BAD-F973D421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C061-08F2-4D00-8C43-380B2D8E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7D7-6A0A-4DA3-B44C-988BCE83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7187-E930-402E-A2C3-1614359E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8964-F472-4892-B3A3-15CFFCF1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D492-2744-4607-923A-00707435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F0C2-CA0A-465A-8EE6-B4E5C5BB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BD3F-8CCF-4813-B05C-4073CBB4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8F3B8-070C-4814-A92D-6005763F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118F-130F-4286-8814-9BAE3DDD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7BBD-2BEF-4E7D-A962-F60AA438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12BBA-07DB-422F-AE2B-6147200C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B346A-9D8F-49D2-9F34-F7C428B6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9F8-7E6C-491F-8DCF-2FB49C44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8184E-05DC-46B1-972F-D8E39251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E2DB3-F7F9-4529-87DE-5A431F81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83D8-6BA2-4686-ABAA-4F559AA4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E03F9-9AC6-4343-B2C2-5CE8F166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C59D5-B658-4604-AC3C-F5A6AC08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A167C-5F52-45D8-A431-431C2EC8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2C600-A9EF-452A-BE53-FC5CFF9C8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9A56A-1838-4C29-AC3A-DFE88F3C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04FA9-0838-488B-BB55-8D77D563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A710D-FFCF-46E8-AA78-AAD1CF20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1A5-158F-4CB0-81A6-F1ACA42E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864BA-A859-49F9-AD8C-6F794DBF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5CC5F-727A-46E4-A574-5281F8D3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C4E4F-404B-4237-9ACC-8BC88ED4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733F1-5E2B-4844-AC77-08E16541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B6CF0-752C-4B7B-896F-79151DF1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8CB02-53A5-4C5B-8D9A-801E9592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DAAF-4AF1-434C-9B22-2D46C6E6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18BE5-3B6C-4C67-AD2B-B82137AE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A0249-908A-4535-B4B0-0510BB3E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B4002-79F6-4EC6-8E90-0F264A5E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F42-607A-4F97-96A1-0E5F5027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7F258-D36D-419B-B189-F943A8B5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21C9E-E804-475D-A38D-36671883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136E3-1AFA-40FA-8F27-11D931E0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D1878-107B-44C1-AC48-F2CB1B30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8C718-FFEE-4664-9B3F-107B4252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8758F-A00E-485C-91ED-5361A58C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89A4E-C287-4517-8C9A-2CA447FB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01198-80A4-43B3-A7F7-FDBF70D2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C3C77-A62A-4178-AAA7-0B38B18B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ADD83-D4E2-4877-A8EA-D8C9DC6C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EE0C-1CDA-425E-8DFF-2D1943BD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5B752-882B-4BAA-B6C6-95C8443B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BB474-5EB6-453F-9F57-4EE09D71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78B63-7B5F-4497-913F-9CF2156A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AF27E-5DB2-47F9-8612-CF9E0A1B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C1864-3267-4DB7-9D68-42F3CE3D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E067D-76A5-4547-8E57-0F04A0ED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9B7C6-4109-429E-974D-2FA9FC32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ABD7B-10D7-416D-800F-5E82CF2C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D80E3-668E-43C0-9DAC-4B5BAC70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C4B28-5F2F-441D-8B05-86C7FA16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C94-95B5-4223-9AF3-93FBFA99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3925E-9FA6-492E-A684-F9AA0534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C4DCB-5650-47E1-A915-B00A890B4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EF842-898B-4AF8-92C6-3355EC09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C6347-C9D8-4D4A-9C1C-C7CFFBD1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FC806-39FA-4ED5-828F-20826AF1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9D047-4AC2-4985-8BB3-9D37B91C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590BC-8678-47B7-A33F-E93D0AA2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A5C36-93DE-4493-B7E5-FFAC4815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93D82-F1D8-4F01-A102-A348BA0C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30B8D-53E5-4234-9265-C0EBF016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6BF-07E5-4BD1-9233-4FF4D354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FB9D2-8642-47A1-AFBF-565C8A77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8E033-E1CE-4188-B924-754993D7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B2C55-EC11-42EB-AAF3-A099EF2A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1AC57-8269-4415-B1B6-CA50A63A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19497-1A59-41F4-BD67-D93BDC7A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989-A640-4699-940C-E944F536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C554-558B-4341-B7A4-A74A7492C8F3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CF69-6426-4E03-9620-1369D1D4FE74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0E4F-A3C0-4510-9353-A4CE8C178015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35D5-7A51-4E13-BA6B-35AFD5A0B073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3BBB-DC43-4B9B-B61D-BF525A963A71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569E-7A3A-48E5-9C20-EEF00D95DBA6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C84F-3F70-4500-B467-0234536A58DA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312E-F39D-4398-9A8B-BB864B8AD43F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A82B-76D6-45A6-9FFC-AF5AFDF22497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94D6-B8A7-4A5C-B9CE-069BA43EEEF9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83F4-BE61-4253-BBF2-1F600BB20805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50AD-AD2E-499E-A59F-AE5253E06E7E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3F75-0CCC-4E44-9C82-88D5BA2F5E2B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8EF8-87F0-4585-B4D7-2D1625B43B54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Bakteri&#225;ln&#237;_tracheitida" TargetMode="External"/><Relationship Id="rId2" Type="http://schemas.openxmlformats.org/officeDocument/2006/relationships/hyperlink" Target="http://www.wikiskripta.eu/index.php/Bronchitida" TargetMode="External"/><Relationship Id="rId3" Type="http://schemas.openxmlformats.org/officeDocument/2006/relationships/hyperlink" Target="http://www.wikiskripta.eu/index.php/Asthma_bronchiale" TargetMode="External"/><Relationship Id="rId4" Type="http://schemas.openxmlformats.org/officeDocument/2006/relationships/hyperlink" Target="http://www.wikiskripta.eu/index.php/Bronchiektazie" TargetMode="External"/><Relationship Id="rId5" Type="http://schemas.openxmlformats.org/officeDocument/2006/relationships/hyperlink" Target="http://www.wikiskripta.eu/index.php/CHOPN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s.wikipedia.org/wiki/Polyp_%28l&#233;ka&#345;stv&#237;%29" TargetMode="External"/><Relationship Id="rId2" Type="http://schemas.openxmlformats.org/officeDocument/2006/relationships/hyperlink" Target="http://www.wikiskripta.eu/index.php/Vegetationes_adenoideae" TargetMode="External"/><Relationship Id="rId3" Type="http://schemas.openxmlformats.org/officeDocument/2006/relationships/hyperlink" Target="http://www.wikiskripta.eu/index.php/N&#225;dory_epifaryngu" TargetMode="External"/><Relationship Id="rId4" Type="http://schemas.openxmlformats.org/officeDocument/2006/relationships/hyperlink" Target="http://www.wikiskripta.eu/index.php/Karcinom_plic" TargetMode="External"/><Relationship Id="rId5" Type="http://schemas.openxmlformats.org/officeDocument/2006/relationships/hyperlink" Target="http://ustavpatologie.upol.cz/_data/section-1/226.pdf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Respira&#269;n&#237;_insuficience" TargetMode="External"/><Relationship Id="rId2" Type="http://schemas.openxmlformats.org/officeDocument/2006/relationships/hyperlink" Target="http://www.wikiskripta.eu/index.php/Plicn&#237;_srdce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Du&#353;nost" TargetMode="External"/><Relationship Id="rId2" Type="http://schemas.openxmlformats.org/officeDocument/2006/relationships/hyperlink" Target="http://galenus.cz/clanky/rejstrik/astma-srdecni" TargetMode="External"/><Relationship Id="rId3" Type="http://schemas.openxmlformats.org/officeDocument/2006/relationships/hyperlink" Target="http://cs.wikipedia.org/wiki/Kussmaulovo_d&#253;ch&#225;n&#237;" TargetMode="External"/><Relationship Id="rId4" Type="http://schemas.openxmlformats.org/officeDocument/2006/relationships/hyperlink" Target="http://www.wikiskripta.eu/index.php/Asfyxie" TargetMode="External"/><Relationship Id="rId5" Type="http://schemas.openxmlformats.org/officeDocument/2006/relationships/hyperlink" Target="http://www.wikiskripta.eu/index.php/Astma_bronchiale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Ka&#353;el" TargetMode="External"/><Relationship Id="rId2" Type="http://schemas.openxmlformats.org/officeDocument/2006/relationships/hyperlink" Target="http://www.wikiskripta.eu/index.php/Obrann&#233;_d&#253;chac&#237;_reflexy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Rhinitis" TargetMode="External"/><Relationship Id="rId2" Type="http://schemas.openxmlformats.org/officeDocument/2006/relationships/hyperlink" Target="http://www.wikiskripta.eu/index.php/Laryngitis_acuta" TargetMode="External"/><Relationship Id="rId3" Type="http://schemas.openxmlformats.org/officeDocument/2006/relationships/hyperlink" Target="http://www.wikiskripta.eu/index.php/Akutn&#237;_epiglotitida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077320" cy="2608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Název školy: Střední zdravotnická škola a vyšší odborná škola zdravotnická Karlovy Vary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Arial Black"/>
              </a:rPr>
              <a:t>Patologie dýchacího ústrojí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VY_32_INOVACE_KLN.2.16a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15.2.2014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Autor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Veronika Rausová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Anotace: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16 zahrnuje pojmy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respirační insuficience, poruchy dýchání, onemocnění dýchacích cest. Prezentace je zakončena sérií otázek k opakování a její součástí je Test X.</a:t>
            </a:r>
            <a:endParaRPr b="1" lang="en-US" sz="20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8191440" cy="13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Akutní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tracheitid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Tracheobronchitid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Bronchitid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Asthma bronchiale </a:t>
            </a:r>
            <a:r>
              <a:rPr b="0" lang="cs-CZ" sz="11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www.wikiskripta.eu/index.php/Asthma_bronchiale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Bronchiektazie </a:t>
            </a:r>
            <a:r>
              <a:rPr b="1" lang="cs-CZ" sz="12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http://www.wikiskripta.eu/index.php/Bronchiektazi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CHOPN </a:t>
            </a: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Chronická obstrukční plicní nemo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Jiná a nádorová onemocnění cest dýchacích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marL="372240" indent="-271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osní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polypy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a polypy vedlejších dutin nosní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Adenoidní vegetac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zbytnění nosnohltanové mandl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ngiofibrom nosohltanu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www.wikiskripta.eu/index.php/N%C3%A1dory_epifaryngu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azofaryngeální karcino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arcinom laryng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Karcinom pl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p prezentace –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patologie respiračního systém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Nemoci plic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Emfyzém plic (rozedma plic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rozená plicní nevzdušnost (atelektáz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ískaná plicní nevzdušnost (plicní kolap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áněty plic (pneumoni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Bronchopneumon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neumocystová pneumonie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Atypick%C3%A9_pneumoni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licní tuberkulóza (TBC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ádory pl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licní edém (otok plic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licní embol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NEMOCI PLEUR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emothorax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Hemothorax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ydrothorax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cs.wikipedia.org/wiki/Ed%C3%A9m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leuritis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Pleuritis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ádory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rimární – vzácný mezoteliom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Mezoteliom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benigní i maligní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Sekundární – metastázy z okolí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Respirační insufucience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Dyspnoe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Hyperpnoe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Bradypnoe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Tachypnoe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Eupnoe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Apnoe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Asthma bronchiale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Laryngitida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Atelektáza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Pneumonie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TBC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Karcinom plic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Pleuritida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Hyperkpnie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Acidóza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2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3715920"/>
            <a:ext cx="8077320" cy="13129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PATOLOGIE DÝCHACÍHO ÚSTROJÍ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Dýchán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68360" y="177336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</a:t>
            </a: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respirac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&gt; zajištění dostatečné oxidace organismu + podíl na udržování acidobazické rovnováh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Respirační insuficien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Respirační insuficience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stav spojený s poruchou homeostázy vnitřního prostředí = důsledek porušené ventilace (průchod vzduchu), difuze (výměna plynů v plicích) nebo perfuze (dostatečný průchod krve plicními kapilárami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-akutní nebo chronická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-vede k akutnímu n. chronickému rozvoji „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plicního srdc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RUCHY DÝCHÁN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Dyspno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– dušnost – klidová nebo námahová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Ortopno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yperpno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Tachypno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usmaulovo periodické dýchání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cs.wikipedia.org/wiki/Kussmaulovo_d%C3%BDch%C3%A1n%C3%AD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Bradypno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pno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Asfyxi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= duše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sthma bronchiale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http://www.wikiskripta.eu/index.php/Astma_bronchial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BRANNÁ OPATŘENÍ DÝCHACÍCH CES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Kaš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ýchá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Další obranné relexy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dýchacích ce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Zánětlivá onemocnění cest dýchacích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Zánětlivá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- způsobená viry, bakteriemi, alergiemi, kouřením, chemickými a atmosferickými škodlivinam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atarální, hnisavá, pablánová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doprovázená horečkami, malátností, svalovými bolestmi, kašle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Rhinitis</a:t>
            </a: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 (rýma)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– zánět nosní sliznice – katarální, hlenohnisavý, hnisav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inusiti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Nazopharyngitis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– zánět nosohltanu – Eustachovou trubicí může postoupit do středouš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Laryngitis</a:t>
            </a: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 –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ánět hrtan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Akutní epiglotitis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– zánět hrtanové příklopk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6:47:33Z</dcterms:created>
  <dc:creator>Veronika</dc:creator>
  <dc:description/>
  <dc:language>en-US</dc:language>
  <cp:lastModifiedBy>Chalupna</cp:lastModifiedBy>
  <dcterms:modified xsi:type="dcterms:W3CDTF">2014-03-31T21:24:36Z</dcterms:modified>
  <cp:revision>31</cp:revision>
  <dc:subject/>
  <dc:title>Snímek 1</dc:title>
</cp:coreProperties>
</file>